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20B-22BD-4526-9C98-706F8FC6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154-5EA6-4AF5-9905-791AD27D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738-6279-4238-B914-DE1BBDCA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EBA-EE25-4AA3-8734-524F2691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425-3E26-43D7-9C12-21FBB999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128-F05A-476E-88AB-9C844741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EEF-5259-444B-9BBD-97B4B991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B1D-748E-4A01-B209-7C781757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E2C-8079-4E45-B86E-097F250D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821-935F-464C-9F91-C7FA775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CC2-F1D2-4C0E-9F52-5DAF8D37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8A3-7385-4173-9BA1-DE0B7459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4398-9D20-42A0-A965-59A8D277C32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0280"/>
            <a:ext cx="244800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402920" y="1197000"/>
            <a:ext cx="144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105264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76500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916280"/>
            <a:ext cx="1873080" cy="158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i chi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MIGR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quando le person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un paese se ne van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ll’esterno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989000"/>
            <a:ext cx="2735280" cy="1511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i chiama IMMIGR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quando in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rrivano stranieri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189000"/>
            <a:ext cx="172872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e persone vann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vivere in un al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aese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156360" y="333000"/>
            <a:ext cx="1224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836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80360" y="189000"/>
            <a:ext cx="151272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rovare 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981000"/>
            <a:ext cx="1079280" cy="165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Fuggire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ituaz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(esemp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guer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3068640"/>
            <a:ext cx="71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3500280"/>
            <a:ext cx="1008000" cy="1513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in I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rriv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immigr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5013360"/>
            <a:ext cx="14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32720" y="5805360"/>
            <a:ext cx="172692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frica/Alb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24000" y="4724280"/>
            <a:ext cx="1008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5734080"/>
            <a:ext cx="1368720" cy="574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uro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005360"/>
            <a:ext cx="194472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Gli Italiani sono st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migranti in mol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aesi e, anch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eno di una volta, 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no anche ogg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486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4581360"/>
            <a:ext cx="151308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ete principal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410920" y="5084640"/>
            <a:ext cx="360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47640" y="508464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5084640"/>
            <a:ext cx="144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877000"/>
            <a:ext cx="93492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5805360"/>
            <a:ext cx="792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ae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urop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4:57Z</dcterms:created>
  <dc:creator>studente</dc:creator>
  <dc:description/>
  <dc:language>en-US</dc:language>
  <cp:lastModifiedBy>s</cp:lastModifiedBy>
  <dcterms:modified xsi:type="dcterms:W3CDTF">2017-02-13T09:05:16Z</dcterms:modified>
  <cp:revision>6</cp:revision>
  <dc:subject/>
  <dc:title>Diapositiva 1</dc:title>
</cp:coreProperties>
</file>